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8837-3213-49C3-9673-9642F2C6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A9F0-583D-4865-9B40-82C609D5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35E5-70B4-4C14-9499-CD96C2C7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EA5F-8F03-4D8F-BC3B-C891D471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8887-85DB-451E-9800-C061A356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E2A-ADD3-4F14-97FD-36B8D5EE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282D-1B70-4DE4-86A3-4B35AFEC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BD86-9012-4206-8C0D-A97243BE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586A-CE9D-4841-898D-058FA689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6351-CDDB-4B3C-AE0A-D94C418E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25B9-643C-450B-8C6E-0D4D437A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0085-AC43-4E71-8700-E0FBFC11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69FA-5A1A-460B-9D7F-00A3FDCD374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2C98-1FF5-4FA3-8E2A-E0C89496B3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f497d"/>
            </a:gs>
            <a:gs pos="50000">
              <a:srgbClr val="1c4270"/>
            </a:gs>
            <a:gs pos="100000">
              <a:srgbClr val="1f49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1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44" name="Group 33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45" name="Group 9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46" name="Group 7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47" name="Freeform 4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prstGeom prst="pie">
                    <a:avLst/>
                  </a:prstGeom>
                  <a:solidFill>
                    <a:srgbClr val="1f49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prstGeom prst="pie">
                    <a:avLst/>
                  </a:prstGeom>
                  <a:solidFill>
                    <a:srgbClr val="1f49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6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prstGeom prst="pie">
                    <a:avLst/>
                  </a:prstGeom>
                  <a:solidFill>
                    <a:srgbClr val="1f49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" name="Freeform 8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prstGeom prst="pie">
                  <a:avLst/>
                </a:prstGeom>
                <a:solidFill>
                  <a:srgbClr val="1f4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Group 23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52" name="Group 13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53" name="Freeform 10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prstGeom prst="pie">
                    <a:avLst/>
                  </a:prstGeom>
                  <a:solidFill>
                    <a:srgbClr val="1f49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11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prstGeom prst="pie">
                    <a:avLst/>
                  </a:prstGeom>
                  <a:solidFill>
                    <a:srgbClr val="1f49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12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prstGeom prst="pie">
                    <a:avLst/>
                  </a:prstGeom>
                  <a:solidFill>
                    <a:srgbClr val="1f49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" name="Freeform 14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prstGeom prst="pie">
                  <a:avLst/>
                </a:prstGeom>
                <a:solidFill>
                  <a:srgbClr val="1f4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Freeform 15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prstGeom prst="pie">
                  <a:avLst/>
                </a:prstGeom>
                <a:solidFill>
                  <a:srgbClr val="1f4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Freeform 16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prstGeom prst="pie">
                  <a:avLst/>
                </a:prstGeom>
                <a:solidFill>
                  <a:srgbClr val="1f4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Freeform 17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prstGeom prst="pie">
                  <a:avLst/>
                </a:prstGeom>
                <a:solidFill>
                  <a:srgbClr val="1f4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Freeform 18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prstGeom prst="pie">
                  <a:avLst/>
                </a:prstGeom>
                <a:solidFill>
                  <a:srgbClr val="1f4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Freeform 19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prstGeom prst="pie">
                  <a:avLst/>
                </a:prstGeom>
                <a:solidFill>
                  <a:srgbClr val="1f4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20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prstGeom prst="pie">
                  <a:avLst/>
                </a:prstGeom>
                <a:solidFill>
                  <a:srgbClr val="1f4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21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prstGeom prst="pie">
                  <a:avLst/>
                </a:prstGeom>
                <a:solidFill>
                  <a:srgbClr val="1f4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Freeform 22"/>
                <p:cNvSpPr/>
                <p:nvPr/>
              </p:nvSpPr>
              <p:spPr>
                <a:xfrm>
                  <a:off x="7061040" y="914400"/>
                  <a:ext cx="262080" cy="376200"/>
                </a:xfrm>
                <a:prstGeom prst="pie">
                  <a:avLst/>
                </a:prstGeom>
                <a:solidFill>
                  <a:srgbClr val="1f4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Group 32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66" name="Freeform 24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prstGeom prst="pie">
                  <a:avLst/>
                </a:prstGeom>
                <a:solidFill>
                  <a:srgbClr val="1f4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" name="Group 29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68" name="Group 27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69" name="Freeform 25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prstGeom prst="pie">
                      <a:avLst/>
                    </a:prstGeom>
                    <a:solidFill>
                      <a:srgbClr val="1f497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" name="Freeform 26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prstGeom prst="pie">
                      <a:avLst/>
                    </a:prstGeom>
                    <a:solidFill>
                      <a:srgbClr val="1f497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1" name="Freeform 28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prstGeom prst="pie">
                    <a:avLst/>
                  </a:prstGeom>
                  <a:solidFill>
                    <a:srgbClr val="1f49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" name="Freeform 30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prstGeom prst="pie">
                  <a:avLst/>
                </a:prstGeom>
                <a:solidFill>
                  <a:srgbClr val="1f4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31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prstGeom prst="pie">
                  <a:avLst/>
                </a:prstGeom>
                <a:solidFill>
                  <a:srgbClr val="1f4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" name="Group 40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75" name="Freeform 34"/>
              <p:cNvSpPr/>
              <p:nvPr/>
            </p:nvSpPr>
            <p:spPr>
              <a:xfrm>
                <a:off x="146160" y="369720"/>
                <a:ext cx="2003400" cy="2460960"/>
              </a:xfrm>
              <a:prstGeom prst="pie">
                <a:avLst/>
              </a:pr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35"/>
              <p:cNvSpPr/>
              <p:nvPr/>
            </p:nvSpPr>
            <p:spPr>
              <a:xfrm>
                <a:off x="1577880" y="138240"/>
                <a:ext cx="681120" cy="647640"/>
              </a:xfrm>
              <a:prstGeom prst="pie">
                <a:avLst/>
              </a:pr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36"/>
              <p:cNvSpPr/>
              <p:nvPr/>
            </p:nvSpPr>
            <p:spPr>
              <a:xfrm>
                <a:off x="1441440" y="365040"/>
                <a:ext cx="434880" cy="333360"/>
              </a:xfrm>
              <a:prstGeom prst="pie">
                <a:avLst/>
              </a:pr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37"/>
              <p:cNvSpPr/>
              <p:nvPr/>
            </p:nvSpPr>
            <p:spPr>
              <a:xfrm>
                <a:off x="1689120" y="2217600"/>
                <a:ext cx="309600" cy="155880"/>
              </a:xfrm>
              <a:prstGeom prst="pie">
                <a:avLst/>
              </a:pr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38"/>
              <p:cNvSpPr/>
              <p:nvPr/>
            </p:nvSpPr>
            <p:spPr>
              <a:xfrm>
                <a:off x="1959120" y="2328840"/>
                <a:ext cx="204480" cy="131760"/>
              </a:xfrm>
              <a:prstGeom prst="pie">
                <a:avLst/>
              </a:pr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39"/>
              <p:cNvSpPr/>
              <p:nvPr/>
            </p:nvSpPr>
            <p:spPr>
              <a:xfrm>
                <a:off x="1833480" y="2698920"/>
                <a:ext cx="1273320" cy="2695320"/>
              </a:xfrm>
              <a:prstGeom prst="pie">
                <a:avLst/>
              </a:pr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ACE TOWARD’S AN EMP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hapter 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pen D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828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ch, 1900: "Open Door" policy in Ch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European nation should carve out a sphere of influence in China and exclude others from trading in th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pite American claims to the contrary, other countries did not fully accept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opened the potential for later conflict with expansion-minded powers in Pacif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ld Colonial Empires, 19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DIVI7233457"/>
          <p:cNvPicPr/>
          <p:nvPr/>
        </p:nvPicPr>
        <p:blipFill>
          <a:blip r:embed="rId2"/>
          <a:stretch/>
        </p:blipFill>
        <p:spPr>
          <a:xfrm>
            <a:off x="762120" y="1905120"/>
            <a:ext cx="76197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rica Looks Out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estic concerns dominated the post-Civil War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70s brought new interest in areas beyond U.S. boundar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tionalism began to replace nationalism (the new Manifest Destin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sons for Expa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, Economic, and Military expan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Geneva"/>
              </a:rPr>
              <a:t>Evolutionary ideas encouraged expansion to give guidance to native peoples elsewhere (Christianity, Democracy, and Capital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Geneva"/>
              </a:rPr>
              <a:t>Expansion abroad sought to gain mar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Geneva"/>
              </a:rPr>
              <a:t>Navy Depo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eign Policy Approaches: 1867–19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xpansionist foreign polic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trategically placed islands taken, intended only as colonies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cquisitions: Hawaii, Samoa, Midway Island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roded European influence in Latin Americ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ample: diverted Latin American trade from Europe through a series of reciprocity treatie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rge merchant marine, strong navy need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DIVI7233446"/>
          <p:cNvPicPr/>
          <p:nvPr/>
        </p:nvPicPr>
        <p:blipFill>
          <a:blip r:embed="rId2"/>
          <a:stretch/>
        </p:blipFill>
        <p:spPr>
          <a:xfrm>
            <a:off x="4567320" y="1981080"/>
            <a:ext cx="4576680" cy="367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War for Princi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828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bellion in Cuba since 189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Yellow press" whipped up U.S. sentiment to favor Cuban independence (Pulitzer/NY World vs. Hearst/NY Journa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cKinley tries for peace agreement to no av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bruary, 1898: Explosion of the Ma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ril, 19: Congress declared Cuba independent, passed "Teller Amendment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ril, 25: U.S. declared war on Sp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"A Splendid Little War"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.S. regular army small, ill-prepa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 took only 10 wee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orge Dewey captures Manila B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ba invaded and conquer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ntiago surrendered, Puerto Rico occup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rican Americans make up large contingent in army (begin to resist segreg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 with Sp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war increased overseas possession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 also gained the U.S. recognition as a “world power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ate of the Philippines was the thorniest issue at the peace negoti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Geneva"/>
              </a:rPr>
              <a:t>War with the Philippines will rage on for 3 more yea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ember, 1898: Treaty of Par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ba indepen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.S. acquires Puerto Rico, Guam, Philipp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tification of peace treaty made U.S. a colonizing n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verning the Emp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reme Court permitted selective application of Constitution to new territ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ive citizenship and other rights (ex: Puerto Ric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tt Amendment: U.S. given right to intervene in Cuban affa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DIVI7233456"/>
          <p:cNvPicPr/>
          <p:nvPr/>
        </p:nvPicPr>
        <p:blipFill>
          <a:blip r:embed="rId3"/>
          <a:stretch/>
        </p:blipFill>
        <p:spPr>
          <a:xfrm>
            <a:off x="3962520" y="2057400"/>
            <a:ext cx="5099040" cy="331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15:38:11Z</dcterms:created>
  <dc:creator>Timothy Hall</dc:creator>
  <dc:description/>
  <cp:keywords/>
  <dc:language>en-US</dc:language>
  <cp:lastModifiedBy>Thaddeus J. Brooks</cp:lastModifiedBy>
  <cp:lastPrinted>2012-09-11T10:32:31Z</cp:lastPrinted>
  <dcterms:modified xsi:type="dcterms:W3CDTF">2013-10-28T14:15:23Z</dcterms:modified>
  <cp:revision>26</cp:revision>
  <dc:subject/>
  <dc:title>CHAPTER 21 TOWARD EMPIRE</dc:title>
</cp:coreProperties>
</file>